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1040" y="744120"/>
            <a:ext cx="2576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9AEF-292F-47BF-96E3-CC29F1A6CD4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2111400" y="744480"/>
            <a:ext cx="2576520" cy="37227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26A6-8D97-49F8-9C51-4B373871FB1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C09-E6CF-4A8D-8137-C1604290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1280" y="57258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E07-22E8-4EA9-82BA-D01D3B95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604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39F8-03F4-4B2C-BABB-9873464C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7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1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7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9AD-5995-4A44-8354-44172CDB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F2B-3C1B-4485-BCDC-F20C4475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6FA-5FBD-4710-AB56-1539C204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AA3-93FD-450F-B185-9EDCB9D3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ACF-8A88-42E2-84EC-EDB09B68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1280" y="395280"/>
            <a:ext cx="61754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77E-6ECD-4724-8EEE-EB7580B3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4A53-D8C5-4F1A-82FF-7871125C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604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60A-A371-4EFE-BCC5-AEBEB337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2F3-EC6B-4D1C-A6DE-4A71F285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1280" y="9019800"/>
            <a:ext cx="160344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3280" y="9019800"/>
            <a:ext cx="160344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787CC7-9F81-435C-8310-C072329AE319}" type="slidenum">
              <a:rPr b="0" lang="it-IT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141720" y="6537240"/>
            <a:ext cx="3403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516480" y="5964120"/>
            <a:ext cx="3341520" cy="389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Elezione di 28 componenti del CNSU iscritti ad un corso di laurea,  di laurea magistrale, di laurea magistrale a ciclo unico o a corsi di laurea di precedenti ordinamen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Università degli Studi di…….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de di……..…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ggio N°…….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Firma del President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egnaposto piè di pagina 1"/>
          <p:cNvSpPr/>
          <p:nvPr/>
        </p:nvSpPr>
        <p:spPr>
          <a:xfrm>
            <a:off x="189000" y="8985240"/>
            <a:ext cx="21715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2"/>
          <p:cNvSpPr/>
          <p:nvPr/>
        </p:nvSpPr>
        <p:spPr>
          <a:xfrm>
            <a:off x="4231440" y="415800"/>
            <a:ext cx="1630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ato ester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e 1"/>
          <p:cNvSpPr/>
          <p:nvPr/>
        </p:nvSpPr>
        <p:spPr>
          <a:xfrm>
            <a:off x="293760" y="4761000"/>
            <a:ext cx="576360" cy="57600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egnaposto piè di pagina 1"/>
          <p:cNvSpPr/>
          <p:nvPr/>
        </p:nvSpPr>
        <p:spPr>
          <a:xfrm>
            <a:off x="485640" y="8842320"/>
            <a:ext cx="217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2"/>
          <p:cNvSpPr/>
          <p:nvPr/>
        </p:nvSpPr>
        <p:spPr>
          <a:xfrm>
            <a:off x="497160" y="3903840"/>
            <a:ext cx="225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imbolo o casel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vuota in caso di assenza di simbol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3"/>
          <p:cNvSpPr/>
          <p:nvPr/>
        </p:nvSpPr>
        <p:spPr>
          <a:xfrm>
            <a:off x="1052640" y="4689360"/>
            <a:ext cx="2663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4"/>
          <p:cNvSpPr/>
          <p:nvPr/>
        </p:nvSpPr>
        <p:spPr>
          <a:xfrm rot="10800000">
            <a:off x="3847680" y="4689360"/>
            <a:ext cx="2825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1"/>
          <p:cNvSpPr/>
          <p:nvPr/>
        </p:nvSpPr>
        <p:spPr>
          <a:xfrm>
            <a:off x="468360" y="8553600"/>
            <a:ext cx="58323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RIMO LEMBO DA PIEG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2"/>
          <p:cNvSpPr/>
          <p:nvPr/>
        </p:nvSpPr>
        <p:spPr>
          <a:xfrm>
            <a:off x="4662360" y="1208160"/>
            <a:ext cx="157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ato inter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sellaDiTesto 3"/>
          <p:cNvSpPr/>
          <p:nvPr/>
        </p:nvSpPr>
        <p:spPr>
          <a:xfrm>
            <a:off x="1052640" y="4437000"/>
            <a:ext cx="27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NOMINAZIONE DELLA LI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4"/>
          <p:cNvSpPr/>
          <p:nvPr/>
        </p:nvSpPr>
        <p:spPr>
          <a:xfrm>
            <a:off x="3813120" y="4437000"/>
            <a:ext cx="302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VOTO DI PREFERENZA PER UN CANDID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e 1"/>
          <p:cNvSpPr/>
          <p:nvPr/>
        </p:nvSpPr>
        <p:spPr>
          <a:xfrm>
            <a:off x="297000" y="5700600"/>
            <a:ext cx="576000" cy="576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3"/>
          <p:cNvSpPr/>
          <p:nvPr/>
        </p:nvSpPr>
        <p:spPr>
          <a:xfrm>
            <a:off x="1052640" y="5602320"/>
            <a:ext cx="2663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4"/>
          <p:cNvSpPr/>
          <p:nvPr/>
        </p:nvSpPr>
        <p:spPr>
          <a:xfrm rot="10800000">
            <a:off x="3847680" y="5602320"/>
            <a:ext cx="2825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e 1"/>
          <p:cNvSpPr/>
          <p:nvPr/>
        </p:nvSpPr>
        <p:spPr>
          <a:xfrm>
            <a:off x="297000" y="6545160"/>
            <a:ext cx="576000" cy="576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3"/>
          <p:cNvSpPr/>
          <p:nvPr/>
        </p:nvSpPr>
        <p:spPr>
          <a:xfrm>
            <a:off x="1052640" y="6473880"/>
            <a:ext cx="266364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tangolo 4"/>
          <p:cNvSpPr/>
          <p:nvPr/>
        </p:nvSpPr>
        <p:spPr>
          <a:xfrm rot="10800000">
            <a:off x="3847680" y="6473520"/>
            <a:ext cx="282564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3:47:32Z</dcterms:created>
  <dc:creator>Fabrizio</dc:creator>
  <dc:description/>
  <dc:language>en-US</dc:language>
  <cp:lastModifiedBy>HP</cp:lastModifiedBy>
  <cp:lastPrinted>2019-04-08T14:26:55Z</cp:lastPrinted>
  <dcterms:modified xsi:type="dcterms:W3CDTF">2022-02-15T08:24:53Z</dcterms:modified>
  <cp:revision>82</cp:revision>
  <dc:subject/>
  <dc:title>Diapositiva 1</dc:title>
</cp:coreProperties>
</file>